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54C-216D-4889-A755-E8DAEFDC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2ED-3F03-4E6D-BFD7-5A8DBD2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073-E376-4AB6-9F2B-F742778A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54D-C1DC-411D-8410-E3BA78E0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0C0-D2ED-4862-9E5A-373D599E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137-859D-4E87-B0B1-23F42A02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A2F-A7A4-452F-8C83-AEBBA37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370-2007-4658-A31A-C72F296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B2C-4A88-4111-8D0C-CC62F724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0F0-2BCB-483D-8A98-6B2EBFC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ABF-82F6-4B79-90EE-3C29FAA3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343-5EEF-4B0F-9063-D1E882F4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783-0FC2-4164-9D98-619A3ABE6D73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rróne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quema aplicado con frecuenci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la Administr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58160"/>
            <a:ext cx="8696520" cy="4349160"/>
            <a:chOff x="457200" y="1658160"/>
            <a:chExt cx="8696520" cy="4349160"/>
          </a:xfrm>
        </p:grpSpPr>
        <p:cxnSp>
          <p:nvCxnSpPr>
            <p:cNvPr id="43" name="_s4102"/>
            <p:cNvCxnSpPr>
              <a:stCxn id="44" idx="1"/>
              <a:endCxn id="45" idx="2"/>
            </p:cNvCxnSpPr>
            <p:nvPr/>
          </p:nvCxnSpPr>
          <p:spPr>
            <a:xfrm rot="10800000">
              <a:off x="7232040" y="3693960"/>
              <a:ext cx="46440" cy="2079720"/>
            </a:xfrm>
            <a:prstGeom prst="bentConnector4">
              <a:avLst>
                <a:gd name="adj1" fmla="val 502343"/>
                <a:gd name="adj2" fmla="val 5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4103"/>
            <p:cNvCxnSpPr>
              <a:stCxn id="47" idx="1"/>
              <a:endCxn id="45" idx="2"/>
            </p:cNvCxnSpPr>
            <p:nvPr/>
          </p:nvCxnSpPr>
          <p:spPr>
            <a:xfrm rot="10800000">
              <a:off x="7232040" y="3693600"/>
              <a:ext cx="46440" cy="1501200"/>
            </a:xfrm>
            <a:prstGeom prst="bentConnector4">
              <a:avLst>
                <a:gd name="adj1" fmla="val 502343"/>
                <a:gd name="adj2" fmla="val 57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4"/>
            <p:cNvCxnSpPr>
              <a:stCxn id="49" idx="3"/>
              <a:endCxn id="45" idx="2"/>
            </p:cNvCxnSpPr>
            <p:nvPr/>
          </p:nvCxnSpPr>
          <p:spPr>
            <a:xfrm flipV="1">
              <a:off x="7185600" y="3693960"/>
              <a:ext cx="46800" cy="1501200"/>
            </a:xfrm>
            <a:prstGeom prst="bentConnector4">
              <a:avLst>
                <a:gd name="adj1" fmla="val 499224"/>
                <a:gd name="adj2" fmla="val 57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5"/>
            <p:cNvCxnSpPr>
              <a:stCxn id="51" idx="1"/>
              <a:endCxn id="45" idx="2"/>
            </p:cNvCxnSpPr>
            <p:nvPr/>
          </p:nvCxnSpPr>
          <p:spPr>
            <a:xfrm rot="10800000">
              <a:off x="7232040" y="3693600"/>
              <a:ext cx="46440" cy="923040"/>
            </a:xfrm>
            <a:prstGeom prst="bentConnector4">
              <a:avLst>
                <a:gd name="adj1" fmla="val 502343"/>
                <a:gd name="adj2" fmla="val 62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4106"/>
            <p:cNvCxnSpPr>
              <a:stCxn id="53" idx="3"/>
              <a:endCxn id="45" idx="2"/>
            </p:cNvCxnSpPr>
            <p:nvPr/>
          </p:nvCxnSpPr>
          <p:spPr>
            <a:xfrm flipV="1">
              <a:off x="7185600" y="3693960"/>
              <a:ext cx="46800" cy="923040"/>
            </a:xfrm>
            <a:prstGeom prst="bentConnector4">
              <a:avLst>
                <a:gd name="adj1" fmla="val 499224"/>
                <a:gd name="adj2" fmla="val 62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4107"/>
            <p:cNvCxnSpPr>
              <a:stCxn id="55" idx="1"/>
              <a:endCxn id="45" idx="2"/>
            </p:cNvCxnSpPr>
            <p:nvPr/>
          </p:nvCxnSpPr>
          <p:spPr>
            <a:xfrm rot="10800000">
              <a:off x="7232040" y="3693960"/>
              <a:ext cx="46440" cy="344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4108"/>
            <p:cNvCxnSpPr>
              <a:stCxn id="57" idx="3"/>
              <a:endCxn id="45" idx="2"/>
            </p:cNvCxnSpPr>
            <p:nvPr/>
          </p:nvCxnSpPr>
          <p:spPr>
            <a:xfrm flipV="1">
              <a:off x="7185600" y="3693960"/>
              <a:ext cx="46800" cy="344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4109"/>
            <p:cNvCxnSpPr>
              <a:stCxn id="59" idx="1"/>
              <a:endCxn id="60" idx="2"/>
            </p:cNvCxnSpPr>
            <p:nvPr/>
          </p:nvCxnSpPr>
          <p:spPr>
            <a:xfrm rot="10800000">
              <a:off x="4362840" y="3693600"/>
              <a:ext cx="46440" cy="1501200"/>
            </a:xfrm>
            <a:prstGeom prst="bentConnector4">
              <a:avLst>
                <a:gd name="adj1" fmla="val 502343"/>
                <a:gd name="adj2" fmla="val 57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4110"/>
            <p:cNvCxnSpPr>
              <a:stCxn id="62" idx="3"/>
              <a:endCxn id="60" idx="2"/>
            </p:cNvCxnSpPr>
            <p:nvPr/>
          </p:nvCxnSpPr>
          <p:spPr>
            <a:xfrm flipV="1">
              <a:off x="3057840" y="3693960"/>
              <a:ext cx="1305360" cy="1501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4111"/>
            <p:cNvCxnSpPr>
              <a:stCxn id="64" idx="1"/>
              <a:endCxn id="60" idx="2"/>
            </p:cNvCxnSpPr>
            <p:nvPr/>
          </p:nvCxnSpPr>
          <p:spPr>
            <a:xfrm rot="10800000">
              <a:off x="4362840" y="3693600"/>
              <a:ext cx="46440" cy="923040"/>
            </a:xfrm>
            <a:prstGeom prst="bentConnector4">
              <a:avLst>
                <a:gd name="adj1" fmla="val 502343"/>
                <a:gd name="adj2" fmla="val 62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112"/>
            <p:cNvCxnSpPr>
              <a:stCxn id="66" idx="3"/>
              <a:endCxn id="60" idx="2"/>
            </p:cNvCxnSpPr>
            <p:nvPr/>
          </p:nvCxnSpPr>
          <p:spPr>
            <a:xfrm flipV="1">
              <a:off x="3057840" y="3693960"/>
              <a:ext cx="1305360" cy="9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4113"/>
            <p:cNvCxnSpPr>
              <a:stCxn id="68" idx="1"/>
              <a:endCxn id="60" idx="2"/>
            </p:cNvCxnSpPr>
            <p:nvPr/>
          </p:nvCxnSpPr>
          <p:spPr>
            <a:xfrm rot="10800000">
              <a:off x="4362840" y="3693960"/>
              <a:ext cx="46440" cy="344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4114"/>
            <p:cNvCxnSpPr>
              <a:stCxn id="70" idx="3"/>
              <a:endCxn id="60" idx="2"/>
            </p:cNvCxnSpPr>
            <p:nvPr/>
          </p:nvCxnSpPr>
          <p:spPr>
            <a:xfrm flipV="1">
              <a:off x="3057840" y="3693960"/>
              <a:ext cx="1305360" cy="344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4115"/>
            <p:cNvCxnSpPr>
              <a:stCxn id="45" idx="0"/>
              <a:endCxn id="72" idx="2"/>
            </p:cNvCxnSpPr>
            <p:nvPr/>
          </p:nvCxnSpPr>
          <p:spPr>
            <a:xfrm flipV="1" rot="16200000">
              <a:off x="6144840" y="2296080"/>
              <a:ext cx="110520" cy="2064240"/>
            </a:xfrm>
            <a:prstGeom prst="bentConnector5">
              <a:avLst>
                <a:gd name="adj1" fmla="val 210457"/>
                <a:gd name="adj2" fmla="val 46380"/>
                <a:gd name="adj3" fmla="val -1104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4116"/>
            <p:cNvCxnSpPr>
              <a:stCxn id="60" idx="0"/>
              <a:endCxn id="72" idx="2"/>
            </p:cNvCxnSpPr>
            <p:nvPr/>
          </p:nvCxnSpPr>
          <p:spPr>
            <a:xfrm flipH="1" flipV="1" rot="5400000">
              <a:off x="4710240" y="2925720"/>
              <a:ext cx="110520" cy="805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117"/>
            <p:cNvCxnSpPr>
              <a:stCxn id="75" idx="3"/>
              <a:endCxn id="76" idx="2"/>
            </p:cNvCxnSpPr>
            <p:nvPr/>
          </p:nvCxnSpPr>
          <p:spPr>
            <a:xfrm flipV="1">
              <a:off x="1623600" y="3273120"/>
              <a:ext cx="46440" cy="2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118"/>
            <p:cNvCxnSpPr>
              <a:stCxn id="72" idx="0"/>
              <a:endCxn id="78" idx="2"/>
            </p:cNvCxnSpPr>
            <p:nvPr/>
          </p:nvCxnSpPr>
          <p:spPr>
            <a:xfrm flipV="1" rot="16200000">
              <a:off x="4873680" y="2551680"/>
              <a:ext cx="110520" cy="478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4119"/>
            <p:cNvCxnSpPr>
              <a:stCxn id="80" idx="0"/>
              <a:endCxn id="78" idx="2"/>
            </p:cNvCxnSpPr>
            <p:nvPr/>
          </p:nvCxnSpPr>
          <p:spPr>
            <a:xfrm flipV="1" rot="16200000">
              <a:off x="6384600" y="1041120"/>
              <a:ext cx="110520" cy="3500280"/>
            </a:xfrm>
            <a:prstGeom prst="bentConnector5">
              <a:avLst>
                <a:gd name="adj1" fmla="val 210457"/>
                <a:gd name="adj2" fmla="val -27545"/>
                <a:gd name="adj3" fmla="val -5980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120"/>
            <p:cNvCxnSpPr>
              <a:stCxn id="82" idx="0"/>
              <a:endCxn id="78" idx="2"/>
            </p:cNvCxnSpPr>
            <p:nvPr/>
          </p:nvCxnSpPr>
          <p:spPr>
            <a:xfrm flipV="1" rot="16200000">
              <a:off x="5629320" y="1796400"/>
              <a:ext cx="110520" cy="1989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121"/>
            <p:cNvCxnSpPr>
              <a:stCxn id="76" idx="0"/>
              <a:endCxn id="78" idx="2"/>
            </p:cNvCxnSpPr>
            <p:nvPr/>
          </p:nvCxnSpPr>
          <p:spPr>
            <a:xfrm flipH="1" flipV="1" rot="5400000">
              <a:off x="3124440" y="1281240"/>
              <a:ext cx="110520" cy="3020400"/>
            </a:xfrm>
            <a:prstGeom prst="bentConnector5">
              <a:avLst>
                <a:gd name="adj1" fmla="val 210457"/>
                <a:gd name="adj2" fmla="val -31910"/>
                <a:gd name="adj3" fmla="val -5980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4122"/>
            <p:cNvSpPr/>
            <p:nvPr/>
          </p:nvSpPr>
          <p:spPr>
            <a:xfrm>
              <a:off x="1928160" y="1658160"/>
              <a:ext cx="5523120" cy="107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</a:rPr>
                <a:t>Organización de la Administración Públ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4123"/>
            <p:cNvSpPr/>
            <p:nvPr/>
          </p:nvSpPr>
          <p:spPr>
            <a:xfrm>
              <a:off x="937440" y="2846160"/>
              <a:ext cx="1464480" cy="42696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oder Legislativ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124"/>
            <p:cNvSpPr/>
            <p:nvPr/>
          </p:nvSpPr>
          <p:spPr>
            <a:xfrm>
              <a:off x="5946840" y="2846160"/>
              <a:ext cx="1464480" cy="4269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der Judi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4125"/>
            <p:cNvSpPr/>
            <p:nvPr/>
          </p:nvSpPr>
          <p:spPr>
            <a:xfrm>
              <a:off x="7457400" y="2846160"/>
              <a:ext cx="1464480" cy="4269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ribunal Supre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e Elec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4126"/>
            <p:cNvSpPr/>
            <p:nvPr/>
          </p:nvSpPr>
          <p:spPr>
            <a:xfrm>
              <a:off x="4435920" y="2846160"/>
              <a:ext cx="1464480" cy="426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der Ejecu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127"/>
            <p:cNvSpPr/>
            <p:nvPr/>
          </p:nvSpPr>
          <p:spPr>
            <a:xfrm>
              <a:off x="457200" y="3383280"/>
              <a:ext cx="1166400" cy="310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Contraloría Gral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de la Repúbl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4128"/>
            <p:cNvSpPr/>
            <p:nvPr/>
          </p:nvSpPr>
          <p:spPr>
            <a:xfrm>
              <a:off x="3779640" y="3383280"/>
              <a:ext cx="1166400" cy="310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ector centralizado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Minister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29"/>
            <p:cNvSpPr/>
            <p:nvPr/>
          </p:nvSpPr>
          <p:spPr>
            <a:xfrm>
              <a:off x="6648840" y="3383280"/>
              <a:ext cx="1166400" cy="31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" rIns="612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ec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escentraliz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4130"/>
            <p:cNvSpPr/>
            <p:nvPr/>
          </p:nvSpPr>
          <p:spPr>
            <a:xfrm>
              <a:off x="1715760" y="3804120"/>
              <a:ext cx="1342080" cy="468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Presidenc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131"/>
            <p:cNvSpPr/>
            <p:nvPr/>
          </p:nvSpPr>
          <p:spPr>
            <a:xfrm>
              <a:off x="4408920" y="3804120"/>
              <a:ext cx="1342080" cy="468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Relacione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Exterior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132"/>
            <p:cNvSpPr/>
            <p:nvPr/>
          </p:nvSpPr>
          <p:spPr>
            <a:xfrm>
              <a:off x="1715760" y="438264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Edu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Públ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133"/>
            <p:cNvSpPr/>
            <p:nvPr/>
          </p:nvSpPr>
          <p:spPr>
            <a:xfrm>
              <a:off x="4408920" y="438264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134"/>
            <p:cNvSpPr/>
            <p:nvPr/>
          </p:nvSpPr>
          <p:spPr>
            <a:xfrm>
              <a:off x="1715760" y="496080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Agricultu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Y Ganaderí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135"/>
            <p:cNvSpPr/>
            <p:nvPr/>
          </p:nvSpPr>
          <p:spPr>
            <a:xfrm>
              <a:off x="4408920" y="496080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Públ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36"/>
            <p:cNvSpPr/>
            <p:nvPr/>
          </p:nvSpPr>
          <p:spPr>
            <a:xfrm>
              <a:off x="5843520" y="3804120"/>
              <a:ext cx="1342080" cy="468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Caja Costarricen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de Seguro Soci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37"/>
            <p:cNvSpPr/>
            <p:nvPr/>
          </p:nvSpPr>
          <p:spPr>
            <a:xfrm>
              <a:off x="7278120" y="3804120"/>
              <a:ext cx="1342080" cy="468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Patronato Nacion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de la Infanc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38"/>
            <p:cNvSpPr/>
            <p:nvPr/>
          </p:nvSpPr>
          <p:spPr>
            <a:xfrm>
              <a:off x="5843520" y="438264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Banco Nacion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de Costa R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39"/>
            <p:cNvSpPr/>
            <p:nvPr/>
          </p:nvSpPr>
          <p:spPr>
            <a:xfrm>
              <a:off x="7278120" y="438264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Instituto Costarricen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de Turism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40"/>
            <p:cNvSpPr/>
            <p:nvPr/>
          </p:nvSpPr>
          <p:spPr>
            <a:xfrm>
              <a:off x="5843520" y="496080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Instituto Nacion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de Aprendizaj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41"/>
            <p:cNvSpPr/>
            <p:nvPr/>
          </p:nvSpPr>
          <p:spPr>
            <a:xfrm>
              <a:off x="7278120" y="496080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niversida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e 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42"/>
            <p:cNvSpPr/>
            <p:nvPr/>
          </p:nvSpPr>
          <p:spPr>
            <a:xfrm>
              <a:off x="7278120" y="5539320"/>
              <a:ext cx="1342080" cy="46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terias puestas, </a:t>
            </a: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por las ley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bajo competencia de la Universidad de Costa 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NAMME: fiscalización de la red v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ódigo de Educación: reconocimiento de títulos extranj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nta de Ahorro y Prést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nsiones complementarias: autorización a la Junta como operadora de p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ción de fundaciones y empresas aux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amblea Legislativa puede dictar leyes </a:t>
            </a: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ampliando competenci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las Universidades Públicas, concediéndole atribuciones –no obligaciones– adi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liminar esas atribuciones de origen legal se necesita oír previamente al Consejo Universit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amblea Legislativa </a:t>
            </a: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arece de potestades para regular la materia puesta, </a:t>
            </a:r>
            <a:r>
              <a:rPr b="0" lang="es-ES_tradnl" sz="2800" spc="-1" strike="noStrike" u="sng">
                <a:solidFill>
                  <a:srgbClr val="cc3300"/>
                </a:solidFill>
                <a:uFillTx/>
                <a:latin typeface="Arial"/>
              </a:rPr>
              <a:t>por la Constitu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bajo la competencia de las Universidade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La Asamblea Legislativa no puede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ferir en la esfera de competencia constitucional de las Universidade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r leyes sobre gobierno u organización universitaria est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r leyes que limiten o condicionen la capacidad jurídica plena de las universidades esta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Son aplicables a las Universidade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sposiciones legales generales, aplicables a cualquier sujeto de Derecho Público o de Derecho privado (Código Civil, Código de Comer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sposiciones legales con verdadero carácter de orden público (Código de Trabajo, normas sobre seguridad o salud, procedimientos judic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sposiciones legales que recogen principios de carácter constitucional (algunas normas de la Ley General de Administración Pública o de la Ley de Contratación Ad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sposiciones de rango co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Fundaciones universit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Hacienda universitaria y hacienda pública. El </a:t>
            </a:r>
            <a:r>
              <a:rPr b="0" i="1" lang="es-CR" sz="2800" spc="-1" strike="noStrike">
                <a:solidFill>
                  <a:srgbClr val="cc3300"/>
                </a:solidFill>
                <a:latin typeface="Arial"/>
              </a:rPr>
              <a:t>patrimonio propi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. Los impuestos. Otras implicaciones: </a:t>
            </a:r>
            <a:r>
              <a:rPr b="0" lang="es-CR" sz="2800" spc="-1" strike="noStrike">
                <a:solidFill>
                  <a:srgbClr val="cc3300"/>
                </a:solidFill>
                <a:latin typeface="Arial"/>
              </a:rPr>
              <a:t>a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presupuesto universitario; </a:t>
            </a:r>
            <a:r>
              <a:rPr b="0" lang="es-CR" sz="2800" spc="-1" strike="noStrike">
                <a:solidFill>
                  <a:srgbClr val="cc3300"/>
                </a:solidFill>
                <a:latin typeface="Arial"/>
              </a:rPr>
              <a:t>b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Contraloría General; </a:t>
            </a:r>
            <a:r>
              <a:rPr b="0" lang="es-CR" sz="2800" spc="-1" strike="noStrike">
                <a:solidFill>
                  <a:srgbClr val="cc3300"/>
                </a:solidFill>
                <a:latin typeface="Arial"/>
              </a:rPr>
              <a:t>c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Tesorería Nacional; </a:t>
            </a:r>
            <a:r>
              <a:rPr b="0" lang="es-CR" sz="2800" spc="-1" strike="noStrike">
                <a:solidFill>
                  <a:srgbClr val="cc3300"/>
                </a:solidFill>
                <a:latin typeface="Arial"/>
              </a:rPr>
              <a:t>d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responsabilidad y rendició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a fundación universitaria es un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órgano especial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de la Univers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ersonería de Derecho privado, vinculada esencialmente a la Un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Finalidad: dotar de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agilidad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a las relaciones de vínculo ext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tículo 84 de la Con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Universidad de Costa Rica es una institución de cultura superior que goza de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independencia para el desempeño de sus fun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y de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plena capacidad juríd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adquirir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derech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contraer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oblig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así como para darse su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organiz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gobierno prop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Las demás instituciones de educación superior universitaria del Estado tendrán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la misma independencia funcional e igual capacidad juríd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la Universidad de Costa 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stado las dotará de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patrimonio prop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colaborará en su finan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158840"/>
            <a:ext cx="8229240" cy="1799640"/>
            <a:chOff x="457200" y="1158840"/>
            <a:chExt cx="8229240" cy="1799640"/>
          </a:xfrm>
        </p:grpSpPr>
        <p:cxnSp>
          <p:nvCxnSpPr>
            <p:cNvPr id="88" name="_s2070"/>
            <p:cNvCxnSpPr>
              <a:stCxn id="89" idx="0"/>
              <a:endCxn id="90" idx="2"/>
            </p:cNvCxnSpPr>
            <p:nvPr/>
          </p:nvCxnSpPr>
          <p:spPr>
            <a:xfrm flipV="1" rot="16200000">
              <a:off x="5299200" y="1545840"/>
              <a:ext cx="228960" cy="1682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68"/>
            <p:cNvCxnSpPr>
              <a:stCxn id="92" idx="0"/>
              <a:endCxn id="90" idx="2"/>
            </p:cNvCxnSpPr>
            <p:nvPr/>
          </p:nvCxnSpPr>
          <p:spPr>
            <a:xfrm flipV="1" rot="16200000">
              <a:off x="6140880" y="704160"/>
              <a:ext cx="228960" cy="3365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62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4457880" y="2386080"/>
              <a:ext cx="228960" cy="1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61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616200" y="1544760"/>
              <a:ext cx="228960" cy="1684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8" idx="0"/>
              <a:endCxn id="90" idx="2"/>
            </p:cNvCxnSpPr>
            <p:nvPr/>
          </p:nvCxnSpPr>
          <p:spPr>
            <a:xfrm flipH="1" flipV="1" rot="5400000">
              <a:off x="2774880" y="703440"/>
              <a:ext cx="228960" cy="33674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6"/>
            <p:cNvSpPr/>
            <p:nvPr/>
          </p:nvSpPr>
          <p:spPr>
            <a:xfrm>
              <a:off x="2374560" y="1158840"/>
              <a:ext cx="4395600" cy="1113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100" spc="-1" strike="noStrike">
                  <a:solidFill>
                    <a:srgbClr val="000000"/>
                  </a:solidFill>
                  <a:latin typeface="Arial"/>
                </a:rPr>
                <a:t>Distribución del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100" spc="-1" strike="noStrike">
                  <a:solidFill>
                    <a:srgbClr val="000000"/>
                  </a:solidFill>
                  <a:latin typeface="Arial"/>
                </a:rPr>
                <a:t>Gobierno en Costa Rica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57200" y="2501640"/>
              <a:ext cx="1497960" cy="456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ODER LEGISL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8"/>
            <p:cNvSpPr/>
            <p:nvPr/>
          </p:nvSpPr>
          <p:spPr>
            <a:xfrm>
              <a:off x="2139840" y="2501640"/>
              <a:ext cx="1498320" cy="456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ODER EJECU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9"/>
            <p:cNvSpPr/>
            <p:nvPr/>
          </p:nvSpPr>
          <p:spPr>
            <a:xfrm>
              <a:off x="3822840" y="2501640"/>
              <a:ext cx="1497960" cy="4568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ODER JUDI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67"/>
            <p:cNvSpPr/>
            <p:nvPr/>
          </p:nvSpPr>
          <p:spPr>
            <a:xfrm>
              <a:off x="7188480" y="2501640"/>
              <a:ext cx="1497960" cy="456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UNIVER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E 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69"/>
            <p:cNvSpPr/>
            <p:nvPr/>
          </p:nvSpPr>
          <p:spPr>
            <a:xfrm>
              <a:off x="5505480" y="2501640"/>
              <a:ext cx="1498320" cy="4568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RIBUNAL SUPREM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E ELE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constitucional del Gobierno, del Poder o de la Sober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amblea Legislativa no posee un monopolio de la Sober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Universidades esta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ituciones autónoma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 “instituciones descentralizada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 “instituciones estatales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instituciones estat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 independencia funcional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plena capacidad juríd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gunos conceptos importan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ultura superior, educación super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ependencia fun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pacidad jurídica plena para organ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pacidad jurídica plena para gobier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trimonio propio: hacienda universit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pacidad jurídica plena, contrac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onsabilidad y rendición de cuen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os conceptos correla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In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iste subordinación alguna respecto a algo externo a la propia Instit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Capacidad jurídica pl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ota el amplio conjunto de atribuciones que le corresponden intrínse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7200" y="1207800"/>
            <a:ext cx="8228880" cy="1822320"/>
            <a:chOff x="457200" y="1207800"/>
            <a:chExt cx="8228880" cy="1822320"/>
          </a:xfrm>
        </p:grpSpPr>
        <p:cxnSp>
          <p:nvCxnSpPr>
            <p:cNvPr id="108" name="_s9221"/>
            <p:cNvCxnSpPr>
              <a:stCxn id="109" idx="0"/>
              <a:endCxn id="110" idx="2"/>
            </p:cNvCxnSpPr>
            <p:nvPr/>
          </p:nvCxnSpPr>
          <p:spPr>
            <a:xfrm flipV="1">
              <a:off x="6743880" y="2412360"/>
              <a:ext cx="3240" cy="21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9222"/>
            <p:cNvCxnSpPr>
              <a:stCxn id="110" idx="0"/>
              <a:endCxn id="112" idx="2"/>
            </p:cNvCxnSpPr>
            <p:nvPr/>
          </p:nvCxnSpPr>
          <p:spPr>
            <a:xfrm flipV="1" rot="16200000">
              <a:off x="5549760" y="816120"/>
              <a:ext cx="215640" cy="217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9223"/>
            <p:cNvCxnSpPr>
              <a:stCxn id="114" idx="0"/>
              <a:endCxn id="115" idx="2"/>
            </p:cNvCxnSpPr>
            <p:nvPr/>
          </p:nvCxnSpPr>
          <p:spPr>
            <a:xfrm flipV="1">
              <a:off x="2398680" y="2412360"/>
              <a:ext cx="3960" cy="21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9224"/>
            <p:cNvCxnSpPr>
              <a:stCxn id="115" idx="0"/>
              <a:endCxn id="112" idx="2"/>
            </p:cNvCxnSpPr>
            <p:nvPr/>
          </p:nvCxnSpPr>
          <p:spPr>
            <a:xfrm flipH="1" flipV="1" rot="5400000">
              <a:off x="3377520" y="816480"/>
              <a:ext cx="215640" cy="217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9225"/>
            <p:cNvSpPr/>
            <p:nvPr/>
          </p:nvSpPr>
          <p:spPr>
            <a:xfrm>
              <a:off x="839160" y="1207800"/>
              <a:ext cx="7464600" cy="587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s-ES_tradnl" sz="2900" spc="-1" strike="noStrike">
                  <a:solidFill>
                    <a:srgbClr val="000000"/>
                  </a:solidFill>
                  <a:latin typeface="Arial"/>
                </a:rPr>
                <a:t>Constitución Política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9226"/>
            <p:cNvSpPr/>
            <p:nvPr/>
          </p:nvSpPr>
          <p:spPr>
            <a:xfrm>
              <a:off x="854280" y="2010600"/>
              <a:ext cx="3089880" cy="40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samblea Legislativ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9227"/>
            <p:cNvSpPr/>
            <p:nvPr/>
          </p:nvSpPr>
          <p:spPr>
            <a:xfrm>
              <a:off x="457200" y="2628000"/>
              <a:ext cx="3884040" cy="40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Ley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9228"/>
            <p:cNvSpPr/>
            <p:nvPr/>
          </p:nvSpPr>
          <p:spPr>
            <a:xfrm>
              <a:off x="5199120" y="2010600"/>
              <a:ext cx="3089880" cy="4021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Universidades Pública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9229"/>
            <p:cNvSpPr/>
            <p:nvPr/>
          </p:nvSpPr>
          <p:spPr>
            <a:xfrm>
              <a:off x="4802040" y="2628000"/>
              <a:ext cx="3884040" cy="4021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statuto Orgánic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Estatuto Orgánico tiene rango material de ley, con carácter exclusivo y excluyente de las l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tículo 88 de la Con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a discusión y aprobación d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oyectos de ley relativos a las materias puestas bajo la competencia de l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versidad de Costa Rica y de las demás instituciones de educación superior universitaria, o relacionadas directamente con ellas, la Asamblea Legislativa deberá oír previamente al Consejo Universitario o al órgano director correspondiente de cada una de ellas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 puesta, </a:t>
            </a:r>
            <a:r>
              <a:rPr b="0" lang="es-ES_tradnl" sz="2400" spc="-1" strike="noStrike">
                <a:solidFill>
                  <a:srgbClr val="cc3300"/>
                </a:solidFill>
                <a:latin typeface="Arial"/>
              </a:rPr>
              <a:t>por la Constitu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bajo competencia de las Universidad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cultura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squeda constante, inagotable, de la verdad, de la belleza, de la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encia, formación human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ón social, extensión cul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iencia crítica de la Pa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ción y asesoramiento del más alto nivel al Estado, a la sociedad. Vínculo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lcances de la cultura superior son definidos por la propia Univer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23:41:21Z</dcterms:created>
  <dc:creator> Luis Baudrit</dc:creator>
  <dc:description/>
  <dc:language>en-US</dc:language>
  <cp:lastModifiedBy>Luis Baudrit Carrillo</cp:lastModifiedBy>
  <dcterms:modified xsi:type="dcterms:W3CDTF">2005-12-01T15:57:38Z</dcterms:modified>
  <cp:revision>27</cp:revision>
  <dc:subject/>
  <dc:title>.</dc:title>
</cp:coreProperties>
</file>